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31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70.jpeg" ContentType="image/jpeg"/>
  <Override PartName="/ppt/media/image35.png" ContentType="image/png"/>
  <Override PartName="/ppt/media/image69.jpeg" ContentType="image/jpeg"/>
  <Override PartName="/ppt/media/image41.png" ContentType="image/png"/>
  <Override PartName="/ppt/media/image20.png" ContentType="image/png"/>
  <Override PartName="/ppt/media/image61.png" ContentType="image/png"/>
  <Override PartName="/ppt/media/image22.png" ContentType="image/png"/>
  <Override PartName="/ppt/media/image24.png" ContentType="image/png"/>
  <Override PartName="/ppt/media/image73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21.png" ContentType="image/png"/>
  <Override PartName="/ppt/media/image60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0.png" ContentType="image/png"/>
  <Override PartName="/ppt/media/image40.png" ContentType="image/png"/>
  <Override PartName="/ppt/media/image42.png" ContentType="image/png"/>
  <Override PartName="/ppt/media/image55.jpeg" ContentType="image/jpe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E8A-B6F2-4976-AFEE-546911F2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D81B-8BEE-490B-A82C-1923533419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866-83D6-4533-9083-BB482F7A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3A8-23D7-427E-97AC-535020E1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BB1-5FC5-4E7A-B801-1EF4FD78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1B5-A7B1-4003-898C-AE029A47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0F65-2C6F-459F-9002-8713B00F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A68-0088-47BF-A83B-EA24CBF0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347-B451-4C17-A741-D262BF7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1124-E050-4A32-8F16-700CDD0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4099-DB98-41B2-A3D2-7A9A49BE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61A-B1EA-4DBE-A7E0-74631A6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D64E-35ED-4047-AABE-98D1FAA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2EF-887A-4DF4-9978-FDD9D59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960-39FF-4D0A-B5E6-2025C6FC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429-08FC-410E-B943-38DBDBB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CF4B-1D07-4A12-AB51-28FD46C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D30-9C7C-4B5F-8355-C65183AB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5435-754C-4E66-98EE-362FCF2C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7CB-204C-4CF1-9107-DB35322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ABB-2295-42DB-959E-D059F00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938-C482-4142-9977-875ECAA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304-B60C-4795-BD4E-7094CC6C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100-F5B5-47B7-82C6-E0977D9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F6E-5794-4321-9122-E3B194E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C8F-6422-4351-9188-23C08AE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6A28-73A0-4B67-B208-C85019818B99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966-F547-41D5-803F-58B5715E554C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159906/black-dragon-sinister-evil.jpg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rewell to Manzan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edd78"/>
                </a:solidFill>
                <a:latin typeface="Verdana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ggravat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big form of offens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 girl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ggravated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 so much I couldn’t take anymore aggriv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puzzles.ca/zzz_aggravated_m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6" name="Picture 5" descr="zzz_aggravated_man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angib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represents value but has either no intrinsic value or no material be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Real Estate is my favorite asset, but my stocks are an intangible ass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news.xinhuanet.com/english/20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9" name="Picture 5" descr="xin_312030621081750016711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mena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walk taken for plea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My friends and I take a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omenad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lk when  we won our g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beckermanphoto.com/wp-content/uploads2/promen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2" name="Picture 5" descr="promenade_bw-22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cif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ke peace or to calm; to appea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gave in to my brother to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cify hi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C0/C06AF-cal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5" name="Picture 5" descr="C06AF-calm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liv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getting or have forgotten, a condition or fact of being forgott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governor gave the criminal oblivion by granting him a pard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thepursuitofgodandhisgrce.files.wordpress.com/2011/02/alzheimers-pati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8" name="Picture 5" descr="alzheimers-patient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stenan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staining or being sustained, one’s means of livelihood; maintenance suppo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job my father has i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sten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 my fami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asqfish.files.wordpress.com/2009/12/sustenance-squirre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1" name="Picture 7" descr="sustenance-squirre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du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bring into subjection; conquer; vanquis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hav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bdue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 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cherylcope.com/wp-cont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4" name="Picture 5" descr="MP900424351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harg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ndition of abnormal drows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feel that I hav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thargy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I play four softball games in a row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additionalneeds.net/Anger_Management/images/lethar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7" name="Picture 5" descr="lethargy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nt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express acceptance of a opinion; pers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ssented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 sisters opinion even though I do not agre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2.bp.blogspot.com/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0" name="Picture 5" descr="julia%252Bwaits"/>
          <p:cNvPicPr/>
          <p:nvPr/>
        </p:nvPicPr>
        <p:blipFill>
          <a:blip r:embed="rId1"/>
          <a:stretch/>
        </p:blipFill>
        <p:spPr>
          <a:xfrm>
            <a:off x="5867280" y="3049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tula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give up on prearranged conditions; stop resis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do not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pitul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eaning my room when it needs i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3" name="Picture 5" descr="capitulat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iscato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eize for public treas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there are people with weapons in the airport the police will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fisc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http://www.google.com/images?hl=en&amp;biw=1362&amp;bih=555&amp;gbv=2&amp;tbm=isch&amp;sa=1&amp;q=confiscated+fierworks&amp;aq=f&amp;aqi=&amp;aql=&amp;oq=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5" descr="Confiscated%20fireworks"/>
          <p:cNvPicPr/>
          <p:nvPr/>
        </p:nvPicPr>
        <p:blipFill>
          <a:blip r:embed="rId1"/>
          <a:stretch/>
        </p:blipFill>
        <p:spPr>
          <a:xfrm>
            <a:off x="5638680" y="228600"/>
            <a:ext cx="32767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rt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intain or def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am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ssertiv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my roo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quickbase.intuit.com/blog/wp-content/uploads/2010/09/assertiv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6" name="Picture 5" descr="assertive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hen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can be believed or accepted; trustwort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My sister is a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uthentic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naturalgame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5" descr="ANd9GcTG6n9-lwLWQtpM7--pqpZnVX8iDmQhrHIiKVmYXSdSZ6zo36YT&amp;t=1"/>
          <p:cNvPicPr/>
          <p:nvPr/>
        </p:nvPicPr>
        <p:blipFill>
          <a:blip r:embed="rId1"/>
          <a:stretch/>
        </p:blipFill>
        <p:spPr>
          <a:xfrm>
            <a:off x="7159680" y="0"/>
            <a:ext cx="1984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EN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By: Taylor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is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cked, evil, ba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: The guy who had the idea to run the plain into the twin tower on 9/11 had a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sinister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in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layoutsparks.com/1/159906/black-dragon-sinister-evil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Picture 6" descr="Black Dragon Sinister Ev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7632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t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not succeed, useless, v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re was no point for him to come to Arizona because to wa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util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any researc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www.cartoonstock.com/newscartoons/cartoonists/rma/lowres/rman3449l.jpg&amp;imgrefur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5" descr="rman3449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gn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cative of self-respect or appreciation of the  formality of an occasion or situa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uy has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ign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fter fighting in the w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762120" y="55627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com/imgres?imgurl=http://ihasahotdog.files.wordpress.com/2009/11/funny-dog-pictures-my-dignity.j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0" name="Picture 7" descr="funny-dog-pictures-my-dignity"/>
          <p:cNvPicPr/>
          <p:nvPr/>
        </p:nvPicPr>
        <p:blipFill>
          <a:blip r:embed="rId1"/>
          <a:stretch/>
        </p:blipFill>
        <p:spPr>
          <a:xfrm>
            <a:off x="7373880" y="0"/>
            <a:ext cx="177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uitles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out result, unprofi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am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fruitles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my stock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saulgallery.com/marcuse/images/fruit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Picture 5" descr="fruitless_th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te of being interned; confi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were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ment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ps In the Untied States during World War 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images.google.com/imgres?imgurl=http://lanternreview.com/blog/wp-content/uploads/2010/05/internment-imag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066680" y="22860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665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til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eeling of enmity, ill w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have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ostil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hen I lose a softball g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B4/6CB34-latent-hostil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0" name="Picture 5" descr="6CB34-latent-hostility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ordina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 importance; secondary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runt of the puppy litter was les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bordin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the ot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A7/698B0-subordin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3" name="Picture 5" descr="698B0-subordinate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0:07:07Z</dcterms:created>
  <dc:creator>owner</dc:creator>
  <dc:description/>
  <dc:language>en-US</dc:language>
  <cp:lastModifiedBy>BCS</cp:lastModifiedBy>
  <dcterms:modified xsi:type="dcterms:W3CDTF">2011-04-26T13:54:24Z</dcterms:modified>
  <cp:revision>17</cp:revision>
  <dc:subject/>
  <dc:title>Farewell to Manzanar</dc:title>
</cp:coreProperties>
</file>